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DF88-9B2A-4D5F-8B0D-FBE338F2DD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FC76-BBE8-4FD8-B94E-A7A8FE1511B0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F4B5-B376-4C67-88C7-427BE26EF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1C49-A25F-4FEC-AB88-508C8EB7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697B-B56B-47C2-A9A2-D4DCBEF64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AD48-EA62-420E-BA0E-2B2C80852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7EFD-B17D-432C-9E00-B5A8DCF6C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ABFA-0AC4-42C5-A400-AC879712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9C7A-B5D8-4952-80F6-1817823F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D261-F512-4AE3-B196-230F2B6B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5B73-C6E9-4CB9-84FD-7036A757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9EDF-FB53-4F22-9C7A-E23BA76B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C88E-DFFB-4AF3-8B5C-53B5BCA9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975C-E394-426E-A7DF-71344502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0E05-4490-4E82-9029-43FFBBDE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045F-98E6-4CF0-ACE3-5E961A88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BBB4-E5D8-44F3-9A46-D6CFDE3F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CD9A-12A4-459C-986C-58E357491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B1B4-C112-4CFE-A845-6D03B3C5C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F78237-4326-4EBA-A282-EECB0189B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0ED87B-DE6F-4500-A21D-686E04E3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56A3BC-505C-4904-998C-43B7A212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86CA3B-7699-448A-8E18-32A2D027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666D85-441D-4AB6-90F0-073AB21C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2A35-CDC5-4045-BAB3-34412AB2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6F9756-E479-4EB8-BEDA-5470206A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276C85-E6C5-46C6-B44C-7B84CE09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7921F4-58DF-4308-BC92-2FBB1855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3E7DD8-9A41-45FF-8C88-47474CB0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6A40DA-B24C-46A4-9F9F-975588A6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DF336E-D5D8-426A-9A3B-BA037519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1C0495-2754-4172-8AE1-727D600CA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9B142E-724C-474C-9F8A-B19E3BBEF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F35FEB-8EFE-4B83-BFF4-45429E4E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66E2EE-9468-4278-8E41-314A9440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D970-11AB-46F6-8719-BABE5273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8722CA-AAB9-4081-9E65-814AD4C3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B09FEC-81DB-466A-A69C-2743E4E7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FE1226-E2B5-4DBC-9532-00BA36B5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0F1538-758A-4A67-A827-7D9063A8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600C26-3257-4F2B-B9AC-59267285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07E371-D9DB-4013-B39A-669203D5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EB0D6B-A25C-4F9A-A0D0-FA1E93E9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7D8CFA-F4B3-498C-82BB-F5D0F3A8F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4737D2-E120-44A0-AF48-8E30A8F0D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160237-964A-4646-83C2-E8FC08CAF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7371-383A-4F04-BD71-D2BCA51C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5FB657-A067-4412-A119-BF539F9C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768002-5F92-48B1-93BC-095832C3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97D252-4459-4D57-809F-DAB2B2FA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E498D3-A8AD-4B2E-A916-044DA0BB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B4A6A5-9BD5-4516-BD38-8DC9766A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47F82F-ED62-456E-B8ED-860E2384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8FFE52-DDA3-45D0-9A20-038E8812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3B6C9C-C400-4508-9724-4BCABEB3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60211D-083C-40FB-B878-FBE5D7F3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B7E8B8-DB58-4D42-BCFF-550D02FF4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B9E7-B73B-4984-99EC-5FC304A1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BCCCCF-077A-443E-9D9E-024C78D1D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138DD-F78E-4E5F-B53D-71F247870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25644-92EF-49EF-A1A6-8AD199B3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D92DA-B219-46EA-92F7-1B884F23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6AAF3-FB8D-42AC-8ED2-AA6F687C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DC459-A6AF-4EEB-B909-A0B9AA13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CDA26-8D33-4608-8BAE-2A27F459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884AE-308F-4504-8334-229B1E13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90587-BF9E-4E96-81CB-C66474DE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78351-A7F1-45C9-A66F-9EB0D6E0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6DAC-E04F-41EC-9508-5728F979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EED48-C561-4F06-8E02-2FA8A2AF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84B0B-1D0F-43AD-B354-AF8230BA8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25AED-8CD3-4D2B-A002-E57B8DF5C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C4CE29-BD27-4AF2-AB04-35F27E304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F58DBC-9895-49B1-BE80-DF2CBA56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6D136E-2F75-4C91-85FF-7F5D7561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FA5237-7162-4FF3-AB68-0D2FB12C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82553E-D11A-4717-BCFF-7B6F8E77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34FE76-C579-410B-8114-1B5EDB42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3E1600-7F7D-4FCC-8CF8-144E91A1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888B-D8A9-4E92-B1FD-77F6B4DC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9A8B85-6250-4570-AD14-5DA74571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7C4FAF-61D9-47B4-82AF-CB95ACB9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11D2AA-65F9-4425-96CC-FF1B09BB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5574F1-B337-45D6-8E53-D622FA0A1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0B7582-EBC5-435E-956F-960BE7620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F1EF2-7B78-49C6-AEF7-B66F158F3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A4C80-040F-4730-A0A3-26AC28E9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EF505-BF41-4913-91CE-33AF892A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BDDF1-4797-4D42-9C69-3A167D04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431A0-DFF7-4EC5-A75D-5EF7FB7C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6D06-59CB-483A-B485-97FFF58D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0A1D3-856E-4EC8-B208-969FB457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6F492-CE94-4F82-8302-4308A438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2B3CE-BB00-4216-ACBB-C73774A7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972CC-3167-4393-9B24-6126823A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0E045-E3A3-45E8-A33B-D761926E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77EEA-9F27-4237-B660-1BB6EAC34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5ECB5-AAA5-4927-A472-4A6EBA2DD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3E01-019C-45B0-A93C-217FB29B9A43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B885-BDA3-4E3E-9F85-F56AD30091C3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91F6-538D-4574-9F27-9E9CCD08BCB1}" type="datetime">
              <a:rPr b="0" lang="fr-FR" sz="21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8492-E893-44FB-AE07-01062DA7C1E1}" type="slidenum">
              <a:rPr b="1" lang="fr-FR" sz="16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7A2B-402A-4232-A0A1-5C6AF7CE774E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20AB-D2E4-4644-97A8-84960D8B7703}" type="slidenum">
              <a:rPr b="1" lang="fr-FR" sz="2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5763-7949-4542-88ED-14666501FD6E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F2C7-4160-4916-98FD-077371E524F1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5E88-6DB9-4BFB-97B4-A9CF37DE6783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D978-2A7D-43C7-A01B-4BFBE71B53A1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FC7A-6290-42BF-89FB-E39C7E990936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CC14-11F4-467B-BD5B-54A95A84DB10}" type="slidenum">
              <a:rPr b="1" lang="fr-FR" sz="16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EE44-AD9C-4984-B971-A6EF811B7BE5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FC94-2DD3-4CEA-BF75-14FEB48A0096}" type="slidenum">
              <a:rPr b="1" lang="fr-FR" sz="2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140D-1E38-4AF7-A6EC-EB496746BEEF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2B73-5FB3-4F2D-8002-70081FF53C34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Recto.pdf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Fiche%20de%20prise%20en%20charge%20Hospitali&#232;re.doc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000920" cy="900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558bb8"/>
                </a:solidFill>
                <a:latin typeface="comic"/>
              </a:rPr>
              <a:t>PRÉSENTATION MSU/LB</a:t>
            </a:r>
            <a:r>
              <a:rPr b="0" lang="fr-FR" sz="4100" spc="-1" strike="noStrike">
                <a:solidFill>
                  <a:srgbClr val="558bb8"/>
                </a:solidFill>
                <a:latin typeface="Tw Cen MT"/>
              </a:rPr>
              <a:t> </a:t>
            </a:r>
            <a:endParaRPr b="0" lang="en-US" sz="41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899640" y="1915920"/>
            <a:ext cx="7272360" cy="8650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62626"/>
                </a:solidFill>
                <a:latin typeface="Tw Cen MT"/>
              </a:rPr>
              <a:t>Atelier sur l’Assurance Maladie Universelle</a:t>
            </a:r>
            <a:br>
              <a:rPr sz="800"/>
            </a:b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262626"/>
                </a:solidFill>
                <a:latin typeface="Tw Cen MT"/>
              </a:rPr>
              <a:t>                                             </a:t>
            </a:r>
            <a:endParaRPr b="0" lang="en-US" sz="800" spc="-1" strike="noStrike">
              <a:solidFill>
                <a:srgbClr val="ffffff"/>
              </a:solidFill>
              <a:latin typeface="Tw Cen MT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76320" y="606888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052D-D814-489B-8500-813C5B200724}" type="datetime">
              <a:rPr b="0" lang="fr-FR" sz="2100" spc="-1" strike="noStrike">
                <a:solidFill>
                  <a:srgbClr val="ffffff"/>
                </a:solidFill>
                <a:latin typeface="Arial"/>
                <a:ea typeface="Arial"/>
              </a:rPr>
              <a:t>29/07/26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9D5F-DE41-48B8-B7EB-C56223667E84}" type="slidenum">
              <a:rPr b="1" lang="fr-FR" sz="1600" spc="-1" strike="noStrike">
                <a:solidFill>
                  <a:srgbClr val="ebddc3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377" name="ZoneTexte 1"/>
          <p:cNvSpPr/>
          <p:nvPr/>
        </p:nvSpPr>
        <p:spPr>
          <a:xfrm>
            <a:off x="539640" y="3933720"/>
            <a:ext cx="79930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262626"/>
                </a:solidFill>
                <a:latin typeface="Tw Cen MT"/>
              </a:rPr>
              <a:t>Expérience de la Mutuelle de Santé Urbaine Laafi Baoré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900" spc="-1" strike="noStrike">
                <a:solidFill>
                  <a:srgbClr val="262626"/>
                </a:solidFill>
                <a:latin typeface="Tw Cen MT"/>
              </a:rPr>
              <a:t>                                                                                             </a:t>
            </a:r>
            <a:r>
              <a:rPr b="1" i="1" lang="fr-FR" sz="1900" spc="-1" strike="noStrike">
                <a:solidFill>
                  <a:srgbClr val="262626"/>
                </a:solidFill>
                <a:latin typeface="Tw Cen MT"/>
              </a:rPr>
              <a:t>Par Marcel ZA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100" spc="-1" strike="noStrike">
                <a:solidFill>
                  <a:srgbClr val="262626"/>
                </a:solidFill>
                <a:latin typeface="Tw Cen MT"/>
              </a:rPr>
              <a:t>                                                                                                                                                                    </a:t>
            </a:r>
            <a:r>
              <a:rPr b="1" i="1" lang="fr-FR" sz="2000" spc="-1" strike="noStrike" u="sng">
                <a:solidFill>
                  <a:srgbClr val="262626"/>
                </a:solidFill>
                <a:uFillTx/>
                <a:latin typeface="Tw Cen MT"/>
              </a:rPr>
              <a:t>Président du 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8" descr=""/>
          <p:cNvPicPr/>
          <p:nvPr/>
        </p:nvPicPr>
        <p:blipFill>
          <a:blip r:embed="rId1"/>
          <a:stretch/>
        </p:blipFill>
        <p:spPr>
          <a:xfrm>
            <a:off x="742968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7696080" cy="736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775f55"/>
                </a:solidFill>
                <a:latin typeface="Tw Cen MT"/>
              </a:rPr>
              <a:t>III. Prestations prises en charge suite 3</a:t>
            </a:r>
            <a:endParaRPr b="0" lang="en-US" sz="35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6465-0684-4BDC-8015-64EDB6A4ED16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CF2C-168E-4618-950A-2BB2809219B7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56760" y="1571400"/>
            <a:ext cx="8425080" cy="4786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Tw Cen MT"/>
              </a:rPr>
              <a:t>Dans les CMA, CMU et CHU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consultations généralistes et spécialisé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analyses de labo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soins dentaires sans prothès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soins ophtalmologiques sans lunett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opérations chirurgical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hospitalisations chirurgical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hospitalisations médical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’accouchement dystociqu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frais d’hôtellerie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8" descr=""/>
          <p:cNvPicPr/>
          <p:nvPr/>
        </p:nvPicPr>
        <p:blipFill>
          <a:blip r:embed="rId1"/>
          <a:stretch/>
        </p:blipFill>
        <p:spPr>
          <a:xfrm>
            <a:off x="7500960" y="142920"/>
            <a:ext cx="1571760" cy="107136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153280" cy="714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775f55"/>
                </a:solidFill>
                <a:latin typeface="Tw Cen MT"/>
              </a:rPr>
              <a:t>IV. Statistiques d’évolution de la MSU/LB </a:t>
            </a:r>
            <a:endParaRPr b="0" lang="en-US" sz="35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214200" y="1214280"/>
          <a:ext cx="8715600" cy="5643720"/>
        </p:xfrm>
        <a:graphic>
          <a:graphicData uri="http://schemas.openxmlformats.org/drawingml/2006/table">
            <a:tbl>
              <a:tblPr/>
              <a:tblGrid>
                <a:gridCol w="1452600"/>
                <a:gridCol w="1452600"/>
                <a:gridCol w="1452600"/>
                <a:gridCol w="1452600"/>
                <a:gridCol w="1452600"/>
                <a:gridCol w="14526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dhér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5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énéfici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0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tisation recouvr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 016 9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 957 1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 903 7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 123 1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 752 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rise en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 990 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 785 5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 421 7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 847 3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 027 1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br de c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1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x de fréqu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3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,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6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x de recouvr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5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9.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5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6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0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x de sinistral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93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  <p:sp>
        <p:nvSpPr>
          <p:cNvPr id="426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6186-5E9A-4003-9A4B-7A76F1272E43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8" descr=""/>
          <p:cNvPicPr/>
          <p:nvPr/>
        </p:nvPicPr>
        <p:blipFill>
          <a:blip r:embed="rId1"/>
          <a:stretch/>
        </p:blipFill>
        <p:spPr>
          <a:xfrm>
            <a:off x="7429680" y="0"/>
            <a:ext cx="1571400" cy="107172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7839360" cy="785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V. Difficultés rencontrées et recommandation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331E-7D59-41E8-8112-FFDD94EB547D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4836-4622-4988-8D67-D95CB789DF5B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24000" y="1557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3000"/>
          </a:bodyPr>
          <a:p>
            <a:pPr marL="320400" indent="-32040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Difficulté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Surconsommation et surprescription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 non respect de la convention par les centres de santé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Transmission tardive des factures dont accumulation de factures parfois d’un an et même plus pour certain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 manque de collaboration et le mauvais traitement de certains agents de santé vis-à-vis des mutualist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a forte demande par les bénéficiaires des produits de spécialités (ceci entraine le désintérêt de la population et la désinscription des membres)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8" descr=""/>
          <p:cNvPicPr/>
          <p:nvPr/>
        </p:nvPicPr>
        <p:blipFill>
          <a:blip r:embed="rId1"/>
          <a:stretch/>
        </p:blipFill>
        <p:spPr>
          <a:xfrm>
            <a:off x="7429680" y="0"/>
            <a:ext cx="1571400" cy="10717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7839360" cy="785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V. Difficultés rencontrées et recommandation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0F61-43C6-46C1-ACA2-582249308DB6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9E1B-5154-4272-A0A8-E3333BAF1B75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24000" y="1557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89000"/>
          </a:bodyPr>
          <a:p>
            <a:pPr marL="306360" indent="-30636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Recommand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Mettre des médecins conseil à la disposition des mutuell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Appuyer les mutuelles dans la sensibilisation des agents de santé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Enseigner des modules sur l’assurance maladie et les mutuelles de santé des écoles de formation de santé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Travailler à la disponibilité des MEG et sensibiliser la population à leur consommation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Renforcer les capacités des responsables et gestionnaires des mutuelles de santé sur le PCMS de l’UEMOA, la loi sur la mutualité sociale du Burkina et l’AMU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EA22-D95D-4532-8533-1C5F050B44C3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392B-61AF-49BF-87B7-542242DF55E0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900" spc="-1" strike="noStrike">
                <a:solidFill>
                  <a:srgbClr val="009900"/>
                </a:solidFill>
                <a:latin typeface="comic"/>
              </a:rPr>
              <a:t>Merci de votre aimable  attention!</a:t>
            </a:r>
            <a:endParaRPr b="0" lang="en-US" sz="39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c00000"/>
                </a:solidFill>
                <a:latin typeface="comic"/>
              </a:rPr>
              <a:t>Laafi Baoré, S’unir aujourd'hui pour garantir demain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c00000"/>
                </a:solidFill>
                <a:latin typeface="comic"/>
              </a:rPr>
              <a:t>Contacts: 25 36 15 25/71 80 07 97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c00000"/>
                </a:solidFill>
                <a:latin typeface="Tw Cen MT"/>
              </a:rPr>
              <a:t>Mail: msu.laafibaore@yahoo.fr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2" name="Picture 8" descr=""/>
          <p:cNvPicPr/>
          <p:nvPr/>
        </p:nvPicPr>
        <p:blipFill>
          <a:blip r:embed="rId1"/>
          <a:stretch/>
        </p:blipFill>
        <p:spPr>
          <a:xfrm>
            <a:off x="7572240" y="214200"/>
            <a:ext cx="15717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2120" y="333360"/>
            <a:ext cx="7696080" cy="792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PLAN DE PRESENTATION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08DE-2EF3-4115-ADD0-E38F3D9A9B3A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F431-4773-423E-8E96-A8DBB36957A0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95280" y="2133360"/>
            <a:ext cx="8424720" cy="2663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9000"/>
          </a:bodyPr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Naissance de la MSU-LB 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Conditions d’adhésion et de prise en char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Prestations prises offert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Statistiques sur l’évolution de la MSU-LB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Difficultés rencontrées et recommand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2" name="Picture 8" descr=""/>
          <p:cNvPicPr/>
          <p:nvPr/>
        </p:nvPicPr>
        <p:blipFill>
          <a:blip r:embed="rId1"/>
          <a:stretch/>
        </p:blipFill>
        <p:spPr>
          <a:xfrm>
            <a:off x="7358040" y="214200"/>
            <a:ext cx="1571760" cy="1071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7696080" cy="723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. NAISSANCE DE LA MSU.LB  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46B0-D4ED-45FB-AF3A-7AC38A89A35C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E4FA-D9AE-4492-8CFA-93CDEA50D5EF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57120" y="128556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89000"/>
          </a:bodyPr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Née de la volonté d’un certain nombre d’organisation de la société civile et d’entreprises (08),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Réalisée son étude de faisabilité sous la houlette du RAMS.BF,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Tenue de son AGC le 30 juin 2006,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Le lancement officiel 28 février 2007 au CMA du 30 sous la présidence du MTSS et le parrainage du Maire de la Commune de Ouagadougou de l’époqu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Début des prestations en 1</a:t>
            </a:r>
            <a:r>
              <a:rPr b="0" lang="fr-FR" sz="2900" spc="-1" strike="noStrike" baseline="30000">
                <a:solidFill>
                  <a:srgbClr val="000000"/>
                </a:solidFill>
                <a:latin typeface="Tw Cen MT"/>
              </a:rPr>
              <a:t>er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 avril 2007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7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85880" y="428760"/>
            <a:ext cx="7696080" cy="72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. NAISSANCE DE LA MSU.LB (suite)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9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D50F-993D-4D48-B9DB-BF15EFF2860A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63D1-B8B7-42BC-B71F-C2592B95BE87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57120" y="1714680"/>
            <a:ext cx="8175600" cy="4665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4000"/>
          </a:bodyPr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e public cible de départ était constitué des membres des organisations mères de la mutuelle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Chaque organisation a constitué une section,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Au sein de chaque section il y a un bureau de la MSU-LB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Ce bureau est chargé de l’animation, l’enregistrement de nouveaux adhérents, de collecte des cotisations et de la gestion de la section,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Une section (inter pro) s’est créée qui regroupe des personnes n’appartenant à aucune de ces organisation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Toutes les adhésions et cotisations sont reversées à l’unité gestio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w Cen MT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2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7696440" cy="107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52DE-D16A-4318-8DD0-06AD42B07298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E6B4-7B97-4CBF-8BF4-29214FB425C4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68000" y="1988640"/>
            <a:ext cx="8351640" cy="431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3000"/>
          </a:bodyPr>
          <a:p>
            <a:pPr marL="320400" indent="-32040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Tw Cen MT"/>
              </a:rPr>
              <a:t>Conditions d’adhésion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Paiement de frais d’adhésion de 2 500 frs pour une famille de 5 personnes (</a:t>
            </a:r>
            <a:r>
              <a:rPr b="0" lang="fr-FR" sz="2700" spc="-1" strike="noStrike">
                <a:solidFill>
                  <a:srgbClr val="009900"/>
                </a:solidFill>
                <a:latin typeface="Tw Cen MT"/>
              </a:rPr>
              <a:t>adhérent + conjoint + enfants à charge de moins de 18 ans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Versement de cotisation de 12 000 frs par personne et par an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Verser au moins 6 mois de cotisation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pporter une copie simple d’extrait de naissance ou CNIB ou passeport et une photo de chaque inscrit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7" name="Picture 8" descr=""/>
          <p:cNvPicPr/>
          <p:nvPr/>
        </p:nvPicPr>
        <p:blipFill>
          <a:blip r:embed="rId1"/>
          <a:stretch/>
        </p:blipFill>
        <p:spPr>
          <a:xfrm>
            <a:off x="7572240" y="142920"/>
            <a:ext cx="135756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8" descr=""/>
          <p:cNvPicPr/>
          <p:nvPr/>
        </p:nvPicPr>
        <p:blipFill>
          <a:blip r:embed="rId1"/>
          <a:stretch/>
        </p:blipFill>
        <p:spPr>
          <a:xfrm>
            <a:off x="7429680" y="214200"/>
            <a:ext cx="1571400" cy="107172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8760" y="404280"/>
            <a:ext cx="8029440" cy="863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 suite1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74A0-3EDB-4B49-9366-14B6A45CD519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75BC-A406-457F-85C6-1B32E643798F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95280" y="1628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Tw Cen MT"/>
              </a:rPr>
              <a:t>Conditions de prise en charge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Observer une période de stage de 03 moi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Se rendre dans une des </a:t>
            </a:r>
            <a:r>
              <a:rPr b="0" lang="fr-FR" sz="2700" spc="-1" strike="noStrike">
                <a:solidFill>
                  <a:srgbClr val="009900"/>
                </a:solidFill>
                <a:latin typeface="Tw Cen MT"/>
              </a:rPr>
              <a:t>26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 formations sanitaires conventionnées (</a:t>
            </a:r>
            <a:r>
              <a:rPr b="0" lang="fr-FR" sz="2700" spc="-1" strike="noStrike">
                <a:solidFill>
                  <a:srgbClr val="009900"/>
                </a:solidFill>
                <a:latin typeface="Tw Cen MT"/>
              </a:rPr>
              <a:t>10 CSPS, 6 CM, 3 CMU, 5 CMA, l’OST et le CHU-YO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ccepter la prise en charge de 70%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Présenter sa </a:t>
            </a:r>
            <a:r>
              <a:rPr b="0" lang="fr-FR" sz="27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carte 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de membr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Payer un ticket modérateur de 30%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8" descr=""/>
          <p:cNvPicPr/>
          <p:nvPr/>
        </p:nvPicPr>
        <p:blipFill>
          <a:blip r:embed="rId1"/>
          <a:stretch/>
        </p:blipFill>
        <p:spPr>
          <a:xfrm>
            <a:off x="7572240" y="142920"/>
            <a:ext cx="1571760" cy="107136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86760" cy="774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 </a:t>
            </a:r>
            <a:br>
              <a:rPr sz="2800"/>
            </a:b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suite2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3730-8C82-4B7E-926E-2CE42140FB7C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2D32-9A8C-4C20-9181-8686F79AE5AB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56760" y="1785600"/>
            <a:ext cx="8286840" cy="4403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9000"/>
          </a:bodyPr>
          <a:p>
            <a:pPr lvl="1" marL="340920" indent="-3409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Tw Cen MT"/>
              </a:rPr>
              <a:t>Circuit de prise en charge 1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Présenter votre carte de membre au guichet de la formation sanitaire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a prise en charge au CHU-YO est faite sur présentation d’une </a:t>
            </a:r>
            <a:r>
              <a:rPr b="0" lang="fr-FR" sz="25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fiche de PEC </a:t>
            </a: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délivrée par l’UG,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Payer les 30% de vos frais médicaux: consultation, examen, hospitalisation…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En cas d’ordonnance présentez votre carte au dépôt pharmaceutique de la formation sanitaire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Payer les 30% des frais d’ordonnances (MEG)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0920" indent="-3409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 suite3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F8E0-2AF2-4C98-96D9-76747B9011DC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AC8C-4AF6-4DE7-96E3-F4F6AD1A1A76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28760" y="1904760"/>
            <a:ext cx="8501040" cy="4476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7000"/>
          </a:bodyPr>
          <a:p>
            <a:pPr lvl="1" marL="334080" indent="-33408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w Cen MT"/>
              </a:rPr>
              <a:t>Circuit de prise en charge 2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lvl="1" marL="334080" indent="-33408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En cas de rupture de médicaments au dépôt,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334080" indent="-33408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chetez vos médicaments dans une pharmacie de la place à la totalité du montant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334080" indent="-33408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dressez une demande de remboursement au PCA de la MSU/LB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54360" indent="-238320">
              <a:spcBef>
                <a:spcPts val="53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9900"/>
                </a:solidFill>
                <a:latin typeface="Tw Cen MT"/>
              </a:rPr>
              <a:t>Pièces jointes (reçu d’achat, ordonnances)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54360" indent="-238320">
              <a:spcBef>
                <a:spcPts val="53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9900"/>
                </a:solidFill>
                <a:latin typeface="Tw Cen MT"/>
              </a:rPr>
              <a:t>Même procédure si vous n’a pas été traité en que mutualiste (en cas d’oubli de votre carte par exemple)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6200" indent="-286200">
              <a:spcBef>
                <a:spcPts val="624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696080" cy="934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775f55"/>
                </a:solidFill>
                <a:latin typeface="Tw Cen MT"/>
              </a:rPr>
              <a:t>III. Prestations prises en charge</a:t>
            </a:r>
            <a:endParaRPr b="0" lang="en-US" sz="35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5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056E-79DA-470F-A7C3-363345577AE0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F393-D473-43B8-BED3-68F4E1DD5EC8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95280" y="198900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lvl="1"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Tw Cen MT"/>
              </a:rPr>
              <a:t>Dans les CSPS, CM (Les soins ambulatoires)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es soins ambulatoires : consultation curative, soins infirmiers, petite chirurgie…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es Médicaments essentiels génériques (M.E.G.) de la liste nationale des médicaments essentiels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’accouchement normal 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a mise en observation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’évacuation vers le centre de référence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1:03:26Z</dcterms:created>
  <dc:creator>NOMBRE B.</dc:creator>
  <dc:description/>
  <dc:language>en-US</dc:language>
  <cp:lastModifiedBy>Poste 12</cp:lastModifiedBy>
  <dcterms:modified xsi:type="dcterms:W3CDTF">2015-06-09T08:42:55Z</dcterms:modified>
  <cp:revision>117</cp:revision>
  <dc:subject/>
  <dc:title>Présentation MSU/LB</dc:title>
</cp:coreProperties>
</file>